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D880-F5E6-4F84-891A-053C5783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E565-FD14-4B6B-A785-CE8ABB75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26BD-2F78-45C9-AD0A-7B1A8ABC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D620-068A-490C-A7EA-B137CF47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0272-99D7-4581-8351-1827206B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6B38-015D-410C-B9B7-97D7D233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DEEA-714D-4E5E-A223-CB6E04AB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4ACB-E57F-461B-AAEB-A08866ED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BB52-1416-4B6B-A020-30A77B99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2411-A699-4DBF-8D5E-F88650C9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BA66-C446-4192-93F4-18F147FC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04AF-0F11-4656-8689-6593BFC8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8ABF-5FF5-48F9-BFB6-E84885A39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HOOSH.WAV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47920" y="685800"/>
            <a:ext cx="5943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Happy Birthday Dr. Seuss!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1674720" y="5029200"/>
            <a:ext cx="62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lcome to the wonderful world of Seus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nextslide"/>
            <a:hlinkClick r:id="rId1"/>
          </p:cNvPr>
          <p:cNvSpPr/>
          <p:nvPr/>
        </p:nvSpPr>
        <p:spPr>
          <a:xfrm>
            <a:off x="3962520" y="5638680"/>
            <a:ext cx="914400" cy="890640"/>
          </a:xfrm>
          <a:custGeom>
            <a:avLst/>
            <a:gdLst>
              <a:gd name="textAreaLeft" fmla="*/ 57600 w 914400"/>
              <a:gd name="textAreaRight" fmla="*/ 856800 w 91440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22176" h="21600">
                <a:moveTo>
                  <a:pt x="0" y="0"/>
                </a:moveTo>
                <a:lnTo>
                  <a:pt x="22176" y="0"/>
                </a:lnTo>
                <a:lnTo>
                  <a:pt x="22176" y="21600"/>
                </a:lnTo>
                <a:lnTo>
                  <a:pt x="0" y="21600"/>
                </a:lnTo>
                <a:close/>
              </a:path>
              <a:path fill="lightenLess" w="22176" h="21600">
                <a:moveTo>
                  <a:pt x="0" y="0"/>
                </a:moveTo>
                <a:lnTo>
                  <a:pt x="22176" y="0"/>
                </a:lnTo>
                <a:lnTo>
                  <a:pt x="20776" y="1400"/>
                </a:lnTo>
                <a:lnTo>
                  <a:pt x="1400" y="1400"/>
                </a:lnTo>
                <a:close/>
              </a:path>
              <a:path fill="darken" w="22176" h="21600">
                <a:moveTo>
                  <a:pt x="22176" y="0"/>
                </a:moveTo>
                <a:lnTo>
                  <a:pt x="22176" y="21600"/>
                </a:lnTo>
                <a:lnTo>
                  <a:pt x="20776" y="20200"/>
                </a:lnTo>
                <a:lnTo>
                  <a:pt x="20776" y="1400"/>
                </a:lnTo>
                <a:close/>
              </a:path>
              <a:path fill="darkenLess" w="22176" h="21600">
                <a:moveTo>
                  <a:pt x="22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76" y="20200"/>
                </a:lnTo>
                <a:close/>
              </a:path>
              <a:path fill="lighten" w="22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76" h="21600">
                <a:moveTo>
                  <a:pt x="4082" y="3794"/>
                </a:moveTo>
                <a:lnTo>
                  <a:pt x="18094" y="10800"/>
                </a:lnTo>
                <a:lnTo>
                  <a:pt x="4082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drart" descr=""/>
          <p:cNvPicPr/>
          <p:nvPr/>
        </p:nvPicPr>
        <p:blipFill>
          <a:blip r:embed="rId2"/>
          <a:stretch/>
        </p:blipFill>
        <p:spPr>
          <a:xfrm>
            <a:off x="3352680" y="2057400"/>
            <a:ext cx="2438640" cy="2514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066680" y="762120"/>
            <a:ext cx="66963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March 2 is Dr. Seuss' Birthday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679320" y="5257800"/>
            <a:ext cx="782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Seuss is a famous childhood author! Let’s explore som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s before we read them! Just click on the buttons to go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nextslide"/>
            <a:hlinkClick r:id="rId1"/>
          </p:cNvPr>
          <p:cNvSpPr/>
          <p:nvPr/>
        </p:nvSpPr>
        <p:spPr>
          <a:xfrm>
            <a:off x="4038480" y="6095880"/>
            <a:ext cx="1043280" cy="457200"/>
          </a:xfrm>
          <a:custGeom>
            <a:avLst/>
            <a:gdLst>
              <a:gd name="textAreaLeft" fmla="*/ 29520 w 1043280"/>
              <a:gd name="textAreaRight" fmla="*/ 1013760 w 1043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9267" h="21600">
                <a:moveTo>
                  <a:pt x="0" y="0"/>
                </a:moveTo>
                <a:lnTo>
                  <a:pt x="49267" y="0"/>
                </a:lnTo>
                <a:lnTo>
                  <a:pt x="49267" y="21600"/>
                </a:lnTo>
                <a:lnTo>
                  <a:pt x="0" y="21600"/>
                </a:lnTo>
                <a:close/>
              </a:path>
              <a:path fill="lightenLess" w="49267" h="21600">
                <a:moveTo>
                  <a:pt x="0" y="0"/>
                </a:moveTo>
                <a:lnTo>
                  <a:pt x="49267" y="0"/>
                </a:lnTo>
                <a:lnTo>
                  <a:pt x="47867" y="1400"/>
                </a:lnTo>
                <a:lnTo>
                  <a:pt x="1400" y="1400"/>
                </a:lnTo>
                <a:close/>
              </a:path>
              <a:path fill="darken" w="49267" h="21600">
                <a:moveTo>
                  <a:pt x="49267" y="0"/>
                </a:moveTo>
                <a:lnTo>
                  <a:pt x="49267" y="21600"/>
                </a:lnTo>
                <a:lnTo>
                  <a:pt x="47867" y="20200"/>
                </a:lnTo>
                <a:lnTo>
                  <a:pt x="47867" y="1400"/>
                </a:lnTo>
                <a:close/>
              </a:path>
              <a:path fill="darkenLess" w="49267" h="21600">
                <a:moveTo>
                  <a:pt x="492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67" y="20200"/>
                </a:lnTo>
                <a:close/>
              </a:path>
              <a:path fill="lighten" w="492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267" h="21600">
                <a:moveTo>
                  <a:pt x="17627" y="3794"/>
                </a:moveTo>
                <a:lnTo>
                  <a:pt x="31640" y="10800"/>
                </a:lnTo>
                <a:lnTo>
                  <a:pt x="17627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86000" y="2743200"/>
            <a:ext cx="1447920" cy="1238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886200" y="2743200"/>
            <a:ext cx="1104840" cy="1295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181480" y="2743200"/>
            <a:ext cx="1219320" cy="1238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90720" y="685800"/>
            <a:ext cx="6991200" cy="14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Do you like Green Eggs and Ham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58" name="grump" descr=""/>
          <p:cNvPicPr/>
          <p:nvPr/>
        </p:nvPicPr>
        <p:blipFill>
          <a:blip r:embed="rId1"/>
          <a:stretch/>
        </p:blipFill>
        <p:spPr>
          <a:xfrm>
            <a:off x="3124080" y="2133720"/>
            <a:ext cx="2438640" cy="2666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39440" y="4994280"/>
            <a:ext cx="814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hem, try them you will see! You will see how good they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! Read Dr. Seuss’ book, Green Eggs and Ham to learn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food that may look yucky is really yumm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nextslide"/>
            <a:hlinkClick r:id="rId2"/>
          </p:cNvPr>
          <p:cNvSpPr/>
          <p:nvPr/>
        </p:nvSpPr>
        <p:spPr>
          <a:xfrm>
            <a:off x="7772400" y="58672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9" h="21600">
                <a:moveTo>
                  <a:pt x="7833" y="3794"/>
                </a:moveTo>
                <a:lnTo>
                  <a:pt x="21846" y="10800"/>
                </a:lnTo>
                <a:lnTo>
                  <a:pt x="783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133720" y="457200"/>
            <a:ext cx="44193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Hop on Pop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64" name="hoppop" descr=""/>
          <p:cNvPicPr/>
          <p:nvPr/>
        </p:nvPicPr>
        <p:blipFill>
          <a:blip r:embed="rId1"/>
          <a:stretch/>
        </p:blipFill>
        <p:spPr>
          <a:xfrm>
            <a:off x="3505320" y="2438280"/>
            <a:ext cx="1981080" cy="2428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70560" y="5146560"/>
            <a:ext cx="743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like to hop on your pop? Do you just like to rhy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ly words?  If you do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p on P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book for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nextslide"/>
            <a:hlinkClick r:id="rId2"/>
          </p:cNvPr>
          <p:cNvSpPr/>
          <p:nvPr/>
        </p:nvSpPr>
        <p:spPr>
          <a:xfrm>
            <a:off x="7315200" y="6095880"/>
            <a:ext cx="1042920" cy="433440"/>
          </a:xfrm>
          <a:custGeom>
            <a:avLst/>
            <a:gdLst>
              <a:gd name="textAreaLeft" fmla="*/ 28080 w 1042920"/>
              <a:gd name="textAreaRight" fmla="*/ 1014840 w 10429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51948" h="21600">
                <a:moveTo>
                  <a:pt x="0" y="0"/>
                </a:moveTo>
                <a:lnTo>
                  <a:pt x="51948" y="0"/>
                </a:lnTo>
                <a:lnTo>
                  <a:pt x="51948" y="21600"/>
                </a:lnTo>
                <a:lnTo>
                  <a:pt x="0" y="21600"/>
                </a:lnTo>
                <a:close/>
              </a:path>
              <a:path fill="lightenLess" w="51948" h="21600">
                <a:moveTo>
                  <a:pt x="0" y="0"/>
                </a:moveTo>
                <a:lnTo>
                  <a:pt x="51948" y="0"/>
                </a:lnTo>
                <a:lnTo>
                  <a:pt x="50548" y="1400"/>
                </a:lnTo>
                <a:lnTo>
                  <a:pt x="1400" y="1400"/>
                </a:lnTo>
                <a:close/>
              </a:path>
              <a:path fill="darken" w="51948" h="21600">
                <a:moveTo>
                  <a:pt x="51948" y="0"/>
                </a:moveTo>
                <a:lnTo>
                  <a:pt x="51948" y="21600"/>
                </a:lnTo>
                <a:lnTo>
                  <a:pt x="50548" y="20200"/>
                </a:lnTo>
                <a:lnTo>
                  <a:pt x="50548" y="1400"/>
                </a:lnTo>
                <a:close/>
              </a:path>
              <a:path fill="darkenLess" w="51948" h="21600">
                <a:moveTo>
                  <a:pt x="51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8" y="20200"/>
                </a:lnTo>
                <a:close/>
              </a:path>
              <a:path fill="lighten" w="51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8" h="21600">
                <a:moveTo>
                  <a:pt x="18967" y="3794"/>
                </a:moveTo>
                <a:lnTo>
                  <a:pt x="32980" y="10800"/>
                </a:lnTo>
                <a:lnTo>
                  <a:pt x="1896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819520" y="838080"/>
            <a:ext cx="2971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Comic Sans MS"/>
              </a:rPr>
              <a:t>The Lorax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0" name="loraxbutton" descr=""/>
          <p:cNvPicPr/>
          <p:nvPr/>
        </p:nvPicPr>
        <p:blipFill>
          <a:blip r:embed="rId1"/>
          <a:stretch/>
        </p:blipFill>
        <p:spPr>
          <a:xfrm>
            <a:off x="3124080" y="2743200"/>
            <a:ext cx="2495520" cy="2133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20320" y="5603760"/>
            <a:ext cx="696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ll know we need to recycle.  Learn from the Lor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if we do not take care of our Eart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nextslide"/>
            <a:hlinkClick r:id="rId2"/>
          </p:cNvPr>
          <p:cNvSpPr/>
          <p:nvPr/>
        </p:nvSpPr>
        <p:spPr>
          <a:xfrm>
            <a:off x="7772400" y="6019920"/>
            <a:ext cx="1042920" cy="509400"/>
          </a:xfrm>
          <a:custGeom>
            <a:avLst/>
            <a:gdLst>
              <a:gd name="textAreaLeft" fmla="*/ 32760 w 1042920"/>
              <a:gd name="textAreaRight" fmla="*/ 1010160 w 104292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44207" h="21600">
                <a:moveTo>
                  <a:pt x="0" y="0"/>
                </a:moveTo>
                <a:lnTo>
                  <a:pt x="44207" y="0"/>
                </a:lnTo>
                <a:lnTo>
                  <a:pt x="44207" y="21600"/>
                </a:lnTo>
                <a:lnTo>
                  <a:pt x="0" y="21600"/>
                </a:lnTo>
                <a:close/>
              </a:path>
              <a:path fill="lightenLess" w="44207" h="21600">
                <a:moveTo>
                  <a:pt x="0" y="0"/>
                </a:moveTo>
                <a:lnTo>
                  <a:pt x="44207" y="0"/>
                </a:lnTo>
                <a:lnTo>
                  <a:pt x="42807" y="1400"/>
                </a:lnTo>
                <a:lnTo>
                  <a:pt x="1400" y="1400"/>
                </a:lnTo>
                <a:close/>
              </a:path>
              <a:path fill="darken" w="44207" h="21600">
                <a:moveTo>
                  <a:pt x="44207" y="0"/>
                </a:moveTo>
                <a:lnTo>
                  <a:pt x="44207" y="21600"/>
                </a:lnTo>
                <a:lnTo>
                  <a:pt x="42807" y="20200"/>
                </a:lnTo>
                <a:lnTo>
                  <a:pt x="42807" y="1400"/>
                </a:lnTo>
                <a:close/>
              </a:path>
              <a:path fill="darkenLess" w="44207" h="21600">
                <a:moveTo>
                  <a:pt x="442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807" y="20200"/>
                </a:lnTo>
                <a:close/>
              </a:path>
              <a:path fill="lighten" w="442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207" h="21600">
                <a:moveTo>
                  <a:pt x="15097" y="3794"/>
                </a:moveTo>
                <a:lnTo>
                  <a:pt x="29110" y="10800"/>
                </a:lnTo>
                <a:lnTo>
                  <a:pt x="15097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905120" y="685800"/>
            <a:ext cx="4572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The Cat in the Hat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6" name="cattop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1828800" cy="1752480"/>
          </a:xfrm>
          <a:prstGeom prst="rect">
            <a:avLst/>
          </a:prstGeom>
          <a:ln w="0">
            <a:noFill/>
          </a:ln>
        </p:spPr>
      </p:pic>
      <p:pic>
        <p:nvPicPr>
          <p:cNvPr id="77" name="catbottom" descr=""/>
          <p:cNvPicPr/>
          <p:nvPr/>
        </p:nvPicPr>
        <p:blipFill>
          <a:blip r:embed="rId2"/>
          <a:stretch/>
        </p:blipFill>
        <p:spPr>
          <a:xfrm>
            <a:off x="3200400" y="3886200"/>
            <a:ext cx="1523880" cy="1752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088960" y="2403360"/>
            <a:ext cx="3843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 book is one of the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vorite of Dr. Seuss’ book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might say it was 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that Dr. Seuss wro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 book about m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at in the 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es B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nextslide"/>
            <a:hlinkClick r:id="rId3"/>
          </p:cNvPr>
          <p:cNvSpPr/>
          <p:nvPr/>
        </p:nvSpPr>
        <p:spPr>
          <a:xfrm>
            <a:off x="640080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09680" y="533520"/>
            <a:ext cx="4819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ank you Dr. Seuss!  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970920" y="5146560"/>
            <a:ext cx="672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would like to see more about Dr. Seuss and 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s, just ask the cat at the Seussville website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randomhouse.com/seussville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firstslide"/>
            <a:hlinkClick r:id="rId1"/>
          </p:cNvPr>
          <p:cNvSpPr/>
          <p:nvPr/>
        </p:nvSpPr>
        <p:spPr>
          <a:xfrm>
            <a:off x="7391520" y="5815080"/>
            <a:ext cx="1042920" cy="738000"/>
          </a:xfrm>
          <a:custGeom>
            <a:avLst/>
            <a:gdLst>
              <a:gd name="textAreaLeft" fmla="*/ 47520 w 1042920"/>
              <a:gd name="textAreaRight" fmla="*/ 995400 w 104292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30520" h="21600">
                <a:moveTo>
                  <a:pt x="0" y="0"/>
                </a:moveTo>
                <a:lnTo>
                  <a:pt x="30520" y="0"/>
                </a:lnTo>
                <a:lnTo>
                  <a:pt x="30520" y="21600"/>
                </a:lnTo>
                <a:lnTo>
                  <a:pt x="0" y="21600"/>
                </a:lnTo>
                <a:close/>
              </a:path>
              <a:path fill="lightenLess" w="30520" h="21600">
                <a:moveTo>
                  <a:pt x="0" y="0"/>
                </a:moveTo>
                <a:lnTo>
                  <a:pt x="30520" y="0"/>
                </a:lnTo>
                <a:lnTo>
                  <a:pt x="29120" y="1400"/>
                </a:lnTo>
                <a:lnTo>
                  <a:pt x="1400" y="1400"/>
                </a:lnTo>
                <a:close/>
              </a:path>
              <a:path fill="darken" w="30520" h="21600">
                <a:moveTo>
                  <a:pt x="30520" y="0"/>
                </a:moveTo>
                <a:lnTo>
                  <a:pt x="30520" y="21600"/>
                </a:lnTo>
                <a:lnTo>
                  <a:pt x="29120" y="20200"/>
                </a:lnTo>
                <a:lnTo>
                  <a:pt x="29120" y="1400"/>
                </a:lnTo>
                <a:close/>
              </a:path>
              <a:path fill="darkenLess" w="30520" h="21600">
                <a:moveTo>
                  <a:pt x="305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20" y="20200"/>
                </a:lnTo>
                <a:close/>
              </a:path>
              <a:path fill="lighten" w="305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20" h="21600">
                <a:moveTo>
                  <a:pt x="15260" y="3837"/>
                </a:moveTo>
                <a:lnTo>
                  <a:pt x="17836" y="6448"/>
                </a:lnTo>
                <a:lnTo>
                  <a:pt x="17836" y="4707"/>
                </a:lnTo>
                <a:lnTo>
                  <a:pt x="19612" y="4707"/>
                </a:lnTo>
                <a:lnTo>
                  <a:pt x="19612" y="8224"/>
                </a:lnTo>
                <a:lnTo>
                  <a:pt x="22223" y="10800"/>
                </a:lnTo>
                <a:lnTo>
                  <a:pt x="20569" y="10800"/>
                </a:lnTo>
                <a:lnTo>
                  <a:pt x="20569" y="17989"/>
                </a:lnTo>
                <a:lnTo>
                  <a:pt x="9951" y="17989"/>
                </a:lnTo>
                <a:lnTo>
                  <a:pt x="9951" y="10800"/>
                </a:lnTo>
                <a:lnTo>
                  <a:pt x="8297" y="10800"/>
                </a:lnTo>
                <a:close/>
              </a:path>
              <a:path fill="darkenLess" w="30520" h="21600">
                <a:moveTo>
                  <a:pt x="17836" y="6448"/>
                </a:moveTo>
                <a:lnTo>
                  <a:pt x="17836" y="4707"/>
                </a:lnTo>
                <a:lnTo>
                  <a:pt x="19612" y="4707"/>
                </a:lnTo>
                <a:lnTo>
                  <a:pt x="19612" y="8224"/>
                </a:lnTo>
                <a:close/>
              </a:path>
              <a:path fill="darkenLess" w="30520" h="21600">
                <a:moveTo>
                  <a:pt x="14337" y="14299"/>
                </a:moveTo>
                <a:lnTo>
                  <a:pt x="16183" y="14299"/>
                </a:lnTo>
                <a:lnTo>
                  <a:pt x="16183" y="17989"/>
                </a:lnTo>
                <a:lnTo>
                  <a:pt x="20569" y="17989"/>
                </a:lnTo>
                <a:lnTo>
                  <a:pt x="20569" y="10800"/>
                </a:lnTo>
                <a:lnTo>
                  <a:pt x="9951" y="10800"/>
                </a:lnTo>
                <a:lnTo>
                  <a:pt x="9951" y="17989"/>
                </a:lnTo>
                <a:lnTo>
                  <a:pt x="14337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askcat2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276720" y="2362320"/>
            <a:ext cx="2209680" cy="2743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1T19:41:14Z</dcterms:created>
  <dc:creator>Jefferson County Schools</dc:creator>
  <dc:description/>
  <dc:language>en-US</dc:language>
  <cp:lastModifiedBy>Pre-Installed-User</cp:lastModifiedBy>
  <dcterms:modified xsi:type="dcterms:W3CDTF">1999-03-02T13:35:34Z</dcterms:modified>
  <cp:revision>6</cp:revision>
  <dc:subject/>
  <dc:title>No Slide Title</dc:title>
</cp:coreProperties>
</file>